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gif" ContentType="image/gif"/>
  <Override PartName="/ppt/media/image22.png" ContentType="image/png"/>
  <Override PartName="/ppt/media/image5.png" ContentType="image/png"/>
  <Override PartName="/ppt/media/image10.png" ContentType="image/png"/>
  <Override PartName="/ppt/media/image16.png" ContentType="image/png"/>
  <Override PartName="/ppt/media/image14.png" ContentType="image/pn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A28D-73F6-4B6F-BD46-74E86CF9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F325-B71D-4571-AB51-F66304FA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F96B1-F110-49FE-A3B0-C478EE4F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A560A-A8F4-4E33-B669-775A82A4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BCB02-5055-4139-9C57-E8A85D40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C6537-9615-43C7-9D0A-3DB69012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6B2DC-5463-449C-B345-B2AC0D02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6F7DE-F61C-4B4C-B74D-E31501DB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08518-F132-418E-BA32-0068FEAE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FA46F-1A2D-4C84-B35F-98F7E222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49D25-6FB2-4F27-8EA6-DB3861E7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DB803-6298-458E-AFDA-4EA14256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8FAB-0168-4C86-B11C-628F9E53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834AE-1039-45AE-B724-460436A2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91913-1A8D-437D-91A9-E5641BB2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3F600-C384-4F46-A75C-43E97381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66271-C22F-4063-B30C-BDBEFADA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2727C-786D-47FF-A5C5-A3E28EB0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68B95-131E-4AB2-B45C-A967FD09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F2F6F-8621-4CB1-BA13-1B2A1BCE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77128-E60E-4CEE-8330-27A3D47D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DC83B-5B87-48B6-B629-F076359D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F5606-82AE-4A2E-9793-AA743C29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C226-12FF-4C67-AE6D-ACFA8BF0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B5778-16B6-45B6-BA7C-5B25B16B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F681-6B8B-4018-91AA-2C804E35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B730-F9E1-49C2-9630-1F131423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701C-CB08-47DF-97DD-52C42984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EF18-8C08-4B82-9D1B-5B4CD9EF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A65A-A180-475B-8FF1-A81E9DB5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7F15-64D9-4C7F-8143-047155D7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AE9C-DA82-4C63-8E34-86E7279F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E6C5-32C3-4220-9E32-3668F9F7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5A28-56FF-4036-ADB3-718D8C4B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71A2-D868-47CD-8BA3-498A09A8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2EAA-86C2-44A0-9AD6-B2C3BE3C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09E6-E6DD-466B-AEAB-4D9D1D80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8FB2-87AE-4746-887A-1DEF9A88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FFC3D-9246-49CC-9C01-00A248FF1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9749D-B3C7-4E14-8EB7-A4B79F57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49645-C12B-4BA3-9B01-06FBF8A5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F1D47-E19E-4470-87AA-E082C414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76681-29AB-456C-AC7B-FE88E334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9E32-4E22-43D5-8D33-9CA6D87F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4FF70-5EAF-45C4-9793-2D47A816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EC004-CF21-4F6F-86DC-16783F27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D5328-036E-4E08-A9DE-A9E0C060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83EFA-1F06-4532-BC64-513B8868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0246C-690F-48EB-A5B6-48AC4EC5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2EC90-7BA6-4181-A0A9-C6E08935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3B40B-A796-471F-8C42-A9193BE4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FF401-E2A6-45C0-B4FF-81A86B45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4B23D-26D8-4CA1-B904-19BF24BF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F93B5-4BD1-40C6-AD8C-27BC7978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4959-0D4A-4425-9CC8-595CA7AB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8D960-D645-4EEE-8C96-33AF6AC6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42251-02ED-4E43-A0F8-7D389490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44E31-BD1C-48ED-8B48-17CF7E68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DB966-120D-4D72-AE44-9C9F6A74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A320D-7CDF-4DAC-8601-E2B12031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303FD-C0E1-4C31-AD14-7E59EE4A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53656-E421-4948-B079-A87A7A80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CE669-4005-4331-9277-B617B769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17000-9027-4541-98BE-3E872BC9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E451B-6805-4237-929D-2A8ED9E1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CE10-CF33-432D-BC91-2CD9F277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E1DE9-C177-437D-8832-117CCA23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DF247-2782-421F-BBB5-E0B3420B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F2407-4283-4C43-A7EF-5BE04C8B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BEE58-E500-4BA7-88B0-B55F8FCE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25E8C-356D-4136-9920-365DABEA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EE8CB-65B0-48D5-AC37-2FA67467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3FA4A-2F22-404D-BFBE-626CBE17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E1E68-6E61-4AD6-B1E2-630AC07C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C3FF7-8C33-410A-A166-7BAE9B93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5C1A6-CA1A-4527-8505-9911F3D7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DE28-727E-482B-8CF4-798658EF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9E258-69B3-4D3A-9F3B-34435BC0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BD2DD-CC1E-4CCB-B70B-31E20B53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3778B-CF7A-4E9F-92A8-B971A7AF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DEB83-B14B-483A-8619-4946B519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472E8-D844-4192-BED0-288B18BA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F3C57-A0DA-4189-A1B2-996852C3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13870-B0F4-48A0-97C6-A060BC57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F89E8-275A-462D-A461-12A4F4A8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80134-5DD2-43A7-BC7C-5CD6EB59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0176B-5919-42AA-8856-6C2104CA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E6FF-CEBE-4285-BD0C-FC26A410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18BCC-B86A-4DAD-8A3A-B5584ADA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BDE9A-BD5D-4E50-9587-4DC6AE19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BA835-431F-4CCB-8D5F-25364546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C168E-3281-4518-A6EB-A936BD80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8E7BE-324E-4CB3-B966-7D317F2C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8220A-F8AF-4BAE-919E-FE318123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E8BFA-75FE-466B-BE94-76D369D9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CB3DC-7CDF-4425-9F05-CEC6B105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62148-FE68-4827-B3BF-0523A34A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A62F8-D726-40C4-B71C-EE7D787A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EAB2-E665-4699-BEA5-4DAF85CA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03B07-8C27-4774-B48A-830C1C0B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399F4-1C83-442E-8A88-E5EE3C1E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4F317-15E7-402B-8D28-C90F062D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937EA-36C4-48AD-B27A-B53C5C37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61A7A-8AE1-419D-B6B8-D99176CF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7E0FF-F841-4393-869F-D8AAD219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E2CF6-5020-4F94-A419-34D63976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18766-AA0F-4B10-BF5F-79CAEB16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632C8-98FE-4538-A817-80F3295A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4E80A-1AA7-455F-B629-009FA805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05B7-A83B-4ADC-AB6D-D3BAA139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ECB4A-3C31-4468-97CD-4A737793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C2D94-AE70-49D4-9B08-685A822F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BEF94-D797-4B6E-92ED-575D236F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20936-1D4E-4188-A11B-3EF28DC7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CD0D3-75CA-4B64-BB80-CB385423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48012-01C5-4415-B43C-00431AC8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B367E-2989-449A-A06B-83B26AFA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4FF09-C590-456E-BD49-6A047993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12BC7-3346-4E26-80E3-866B5742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96D47-5F33-485F-8E04-9D311B9B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1B4B-D2D9-4E34-9CB9-30E2BE86ACD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A24F-ABEE-4E78-A9E6-8FCA3804FCE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7280"/>
            <a:chOff x="512640" y="5346720"/>
            <a:chExt cx="8637840" cy="1728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3F22-379F-4CD5-A050-8A188DDC637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76A1-200C-4D10-98EB-435ABBD5C2D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7640"/>
            <a:chOff x="512640" y="3438360"/>
            <a:chExt cx="8637840" cy="1764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E871-3C52-49A4-9F85-326CD31A890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9080"/>
            <a:chOff x="512640" y="6016680"/>
            <a:chExt cx="8637840" cy="1908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F348-0826-45A0-8681-C23779E8EF1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84BA-F3C7-4DA1-8276-9555902DA46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7640"/>
            <a:chOff x="512640" y="5846760"/>
            <a:chExt cx="8637840" cy="1764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4DC4-CCCA-41E9-AB6D-04A78FA0C26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3705-89CB-48B0-BAC4-F06BD1A8058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8013-260C-491E-B177-C91CBDD172E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560" y="121896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Medium"/>
              </a:rPr>
              <a:t>В МУЗЕЕ НАПИТКОВ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3329"/>
                </a:solidFill>
                <a:latin typeface="Franklin Gothic Book"/>
              </a:rPr>
              <a:t>Урок здоровья для учащихся 1 класс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Rectangle 7" descr=""/>
          <p:cNvPicPr/>
          <p:nvPr/>
        </p:nvPicPr>
        <p:blipFill>
          <a:blip r:embed="rId1"/>
          <a:stretch/>
        </p:blipFill>
        <p:spPr>
          <a:xfrm>
            <a:off x="115920" y="244440"/>
            <a:ext cx="8418600" cy="120024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228600" y="20570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</a:rPr>
              <a:t>меньше употребляйте газированных напитков, так как они содержат вещества ,вредные для организма </a:t>
            </a:r>
            <a:br>
              <a:rPr sz="2400"/>
            </a:br>
            <a:r>
              <a:rPr b="1" lang="ru-RU" sz="2400" spc="-1" strike="noStrike">
                <a:solidFill>
                  <a:srgbClr val="4e3b3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</a:rPr>
              <a:t>предпочтение отдавайте натуральным напиткам, полезным для здоровья.</a:t>
            </a:r>
            <a:br>
              <a:rPr sz="2400"/>
            </a:br>
            <a:br>
              <a:rPr sz="1800"/>
            </a:br>
            <a:r>
              <a:rPr b="1" lang="ru-RU" sz="1800" spc="-1" strike="noStrike">
                <a:solidFill>
                  <a:srgbClr val="4e3b3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2438280" y="61722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ad1f1f"/>
                </a:solidFill>
                <a:uFillTx/>
                <a:latin typeface="Franklin Gothic Book"/>
              </a:rPr>
              <a:t>Будьте здоров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14" descr="2b82860c2ba0c94570bc4fa10a39c22e"/>
          <p:cNvPicPr/>
          <p:nvPr/>
        </p:nvPicPr>
        <p:blipFill>
          <a:blip r:embed="rId2"/>
          <a:stretch/>
        </p:blipFill>
        <p:spPr>
          <a:xfrm>
            <a:off x="6858000" y="0"/>
            <a:ext cx="11336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Заголовок 1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29600" cy="1272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квас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 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какао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3504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компот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морс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1" name="Picture 3" descr=""/>
          <p:cNvPicPr/>
          <p:nvPr/>
        </p:nvPicPr>
        <p:blipFill>
          <a:blip r:embed="rId2"/>
          <a:stretch/>
        </p:blipFill>
        <p:spPr>
          <a:xfrm>
            <a:off x="3048120" y="1676520"/>
            <a:ext cx="914400" cy="27432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4" descr=""/>
          <p:cNvPicPr/>
          <p:nvPr/>
        </p:nvPicPr>
        <p:blipFill>
          <a:blip r:embed="rId3"/>
          <a:stretch/>
        </p:blipFill>
        <p:spPr>
          <a:xfrm>
            <a:off x="6095880" y="43434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5" descr=""/>
          <p:cNvPicPr/>
          <p:nvPr/>
        </p:nvPicPr>
        <p:blipFill>
          <a:blip r:embed="rId4"/>
          <a:stretch/>
        </p:blipFill>
        <p:spPr>
          <a:xfrm>
            <a:off x="914400" y="4191120"/>
            <a:ext cx="1600200" cy="2357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6" descr=""/>
          <p:cNvPicPr/>
          <p:nvPr/>
        </p:nvPicPr>
        <p:blipFill>
          <a:blip r:embed="rId5"/>
          <a:stretch/>
        </p:blipFill>
        <p:spPr>
          <a:xfrm>
            <a:off x="5105520" y="1981080"/>
            <a:ext cx="182880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1" descr=""/>
          <p:cNvPicPr/>
          <p:nvPr/>
        </p:nvPicPr>
        <p:blipFill>
          <a:blip r:embed="rId1"/>
          <a:stretch/>
        </p:blipFill>
        <p:spPr>
          <a:xfrm>
            <a:off x="689040" y="384120"/>
            <a:ext cx="8454960" cy="1311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7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2057400" cy="21733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8" descr=""/>
          <p:cNvPicPr/>
          <p:nvPr/>
        </p:nvPicPr>
        <p:blipFill>
          <a:blip r:embed="rId3"/>
          <a:stretch/>
        </p:blipFill>
        <p:spPr>
          <a:xfrm>
            <a:off x="4114800" y="4114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9" descr=""/>
          <p:cNvPicPr/>
          <p:nvPr/>
        </p:nvPicPr>
        <p:blipFill>
          <a:blip r:embed="rId4"/>
          <a:stretch/>
        </p:blipFill>
        <p:spPr>
          <a:xfrm>
            <a:off x="6041880" y="1523880"/>
            <a:ext cx="22449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2" descr=""/>
          <p:cNvPicPr/>
          <p:nvPr/>
        </p:nvPicPr>
        <p:blipFill>
          <a:blip r:embed="rId1"/>
          <a:stretch/>
        </p:blipFill>
        <p:spPr>
          <a:xfrm>
            <a:off x="719280" y="262080"/>
            <a:ext cx="7967520" cy="12380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1856880" y="1428480"/>
            <a:ext cx="663732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ddd2b1"/>
                </a:solidFill>
                <a:latin typeface="Franklin Gothic Book"/>
              </a:rPr>
              <a:t>Вес    8    200</a:t>
            </a:r>
            <a:endParaRPr b="0" lang="en-US" sz="80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57" name="Умножение 4"/>
          <p:cNvSpPr/>
          <p:nvPr/>
        </p:nvSpPr>
        <p:spPr>
          <a:xfrm>
            <a:off x="3962520" y="18288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82066" y="257166"/>
                </a:moveTo>
                <a:lnTo>
                  <a:pt x="257166" y="182066"/>
                </a:lnTo>
                <a:lnTo>
                  <a:pt x="457200" y="382100"/>
                </a:lnTo>
                <a:lnTo>
                  <a:pt x="657234" y="182066"/>
                </a:lnTo>
                <a:lnTo>
                  <a:pt x="732334" y="257166"/>
                </a:lnTo>
                <a:lnTo>
                  <a:pt x="532300" y="457200"/>
                </a:lnTo>
                <a:lnTo>
                  <a:pt x="732334" y="657234"/>
                </a:lnTo>
                <a:lnTo>
                  <a:pt x="657234" y="732334"/>
                </a:lnTo>
                <a:lnTo>
                  <a:pt x="457200" y="532300"/>
                </a:lnTo>
                <a:lnTo>
                  <a:pt x="257166" y="732334"/>
                </a:lnTo>
                <a:lnTo>
                  <a:pt x="182066" y="657234"/>
                </a:lnTo>
                <a:lnTo>
                  <a:pt x="382100" y="457200"/>
                </a:lnTo>
                <a:lnTo>
                  <a:pt x="182066" y="257166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Деление 5"/>
          <p:cNvSpPr/>
          <p:nvPr/>
        </p:nvSpPr>
        <p:spPr>
          <a:xfrm>
            <a:off x="5638680" y="18288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457200" y="135263"/>
                </a:moveTo>
                <a:cubicBezTo>
                  <a:pt x="516589" y="135263"/>
                  <a:pt x="564733" y="183407"/>
                  <a:pt x="564733" y="242796"/>
                </a:cubicBezTo>
                <a:cubicBezTo>
                  <a:pt x="564733" y="302185"/>
                  <a:pt x="516589" y="350329"/>
                  <a:pt x="457200" y="350329"/>
                </a:cubicBezTo>
                <a:cubicBezTo>
                  <a:pt x="397811" y="350329"/>
                  <a:pt x="349667" y="302185"/>
                  <a:pt x="349667" y="242796"/>
                </a:cubicBezTo>
                <a:cubicBezTo>
                  <a:pt x="349667" y="183407"/>
                  <a:pt x="397811" y="135263"/>
                  <a:pt x="457200" y="135263"/>
                </a:cubicBezTo>
                <a:close/>
                <a:moveTo>
                  <a:pt x="457200" y="779137"/>
                </a:moveTo>
                <a:cubicBezTo>
                  <a:pt x="397811" y="779137"/>
                  <a:pt x="349667" y="730993"/>
                  <a:pt x="349667" y="671604"/>
                </a:cubicBezTo>
                <a:cubicBezTo>
                  <a:pt x="349667" y="612215"/>
                  <a:pt x="397811" y="564071"/>
                  <a:pt x="457200" y="564071"/>
                </a:cubicBezTo>
                <a:cubicBezTo>
                  <a:pt x="516589" y="564071"/>
                  <a:pt x="564733" y="612215"/>
                  <a:pt x="564733" y="671604"/>
                </a:cubicBezTo>
                <a:cubicBezTo>
                  <a:pt x="564733" y="730993"/>
                  <a:pt x="516589" y="779137"/>
                  <a:pt x="457200" y="779137"/>
                </a:cubicBezTo>
                <a:close/>
                <a:moveTo>
                  <a:pt x="121204" y="404096"/>
                </a:moveTo>
                <a:lnTo>
                  <a:pt x="793196" y="404096"/>
                </a:lnTo>
                <a:lnTo>
                  <a:pt x="793196" y="510304"/>
                </a:lnTo>
                <a:lnTo>
                  <a:pt x="121204" y="510304"/>
                </a:lnTo>
                <a:lnTo>
                  <a:pt x="121204" y="404096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Заголовок 1" descr=""/>
          <p:cNvPicPr/>
          <p:nvPr/>
        </p:nvPicPr>
        <p:blipFill>
          <a:blip r:embed="rId1"/>
          <a:stretch/>
        </p:blipFill>
        <p:spPr>
          <a:xfrm>
            <a:off x="122400" y="49320"/>
            <a:ext cx="8564400" cy="168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0" name="Содержимое 3"/>
          <p:cNvGraphicFramePr/>
          <p:nvPr/>
        </p:nvGraphicFramePr>
        <p:xfrm>
          <a:off x="255600" y="1041480"/>
          <a:ext cx="8775720" cy="570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61" name="Содержимое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" y="1041480"/>
                    <a:ext cx="877572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84132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разных источниках мы прочитал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Если в стакан с Колой опустить кусочек колбасы, то колбаса почернеет, а затем полностью растворится в напитке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Молочный зуб почернеет на 2 день, а затем в нем появятся трещины.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Старый ржавый гвоздь можно очистить от ржавчины, если положить его на несколько дней в Колу. Результат будет налицо!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5867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tretch/>
        </p:blipFill>
        <p:spPr>
          <a:xfrm>
            <a:off x="76356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dalova</dc:creator>
  <dc:description/>
  <dc:language>en-US</dc:language>
  <cp:lastModifiedBy>missn</cp:lastModifiedBy>
  <dcterms:modified xsi:type="dcterms:W3CDTF">2018-03-14T17:36:41Z</dcterms:modified>
  <cp:revision>26</cp:revision>
  <dc:subject/>
  <dc:title>Слайд 1</dc:title>
</cp:coreProperties>
</file>